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D94B-2D33-45BD-B8ED-B42605966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7D26-D955-4281-98BC-E2BDAAC1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6E4A-1A3A-480B-B7A6-3F22CFE1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5A21-2FE8-4DFF-9269-5D5865F1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B9E0-EEC3-4D5A-AEFE-8D8548F9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F79E-AF96-44D2-9829-4AF2CEFC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065D-72EA-4B42-BEC2-341C08AE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1545-04F8-4D4E-A6DB-D7689CF5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F09E-D0E5-4E29-A523-CB01D912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671C-9D70-4E9C-BB91-CEAB3D58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6A38-3941-41B3-835E-6DD9E288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4108-6984-4099-ACC8-7D3E82D3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0565-4333-495E-9D97-F9263446C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6477120" y="76176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086600" y="609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o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7086600" y="1752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db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6477120" y="914400"/>
            <a:ext cx="609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086600" y="2895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im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7086600" y="4038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ffy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6477120" y="914400"/>
            <a:ext cx="60948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77120" y="914400"/>
            <a:ext cx="60948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638680" y="762120"/>
          <a:ext cx="838440" cy="218592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8153280" y="4724280"/>
          <a:ext cx="838440" cy="194328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n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7926480" y="4119480"/>
            <a:ext cx="226800" cy="90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066680" y="152280"/>
          <a:ext cx="990360" cy="1214640"/>
        </p:xfrm>
        <a:graphic>
          <a:graphicData uri="http://schemas.openxmlformats.org/drawingml/2006/table">
            <a:tbl>
              <a:tblPr/>
              <a:tblGrid>
                <a:gridCol w="99036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 flipH="1" flipV="1">
            <a:off x="2057400" y="304920"/>
            <a:ext cx="4572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48520" y="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Arial"/>
              </a:rPr>
              <a:t>NeuroLog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333399"/>
                </a:solidFill>
                <a:latin typeface="Arial"/>
              </a:rPr>
              <a:t>v2.0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- 0504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638680" y="3200400"/>
          <a:ext cx="838080" cy="340056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isease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_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_ma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_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_ma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eri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_eff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3581280" y="1981080"/>
            <a:ext cx="53352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52280" y="152280"/>
          <a:ext cx="838440" cy="97164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_inf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_r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114800" y="152280"/>
          <a:ext cx="1066680" cy="170028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crip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_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 flipV="1">
            <a:off x="3581280" y="309240"/>
            <a:ext cx="534960" cy="174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81480" y="3049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2057400" y="152352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057400" y="2666880"/>
            <a:ext cx="45720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066680" y="5181480"/>
          <a:ext cx="990360" cy="1457280"/>
        </p:xfrm>
        <a:graphic>
          <a:graphicData uri="http://schemas.openxmlformats.org/drawingml/2006/table">
            <a:tbl>
              <a:tblPr/>
              <a:tblGrid>
                <a:gridCol w="99036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yto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066680" y="1447920"/>
          <a:ext cx="990720" cy="364320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ink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_s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_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514600" y="1905120"/>
          <a:ext cx="1066680" cy="267156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114800" y="5486400"/>
          <a:ext cx="1066320" cy="1214280"/>
        </p:xfrm>
        <a:graphic>
          <a:graphicData uri="http://schemas.openxmlformats.org/drawingml/2006/table">
            <a:tbl>
              <a:tblPr/>
              <a:tblGrid>
                <a:gridCol w="106632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clas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3581280" y="1981080"/>
            <a:ext cx="20574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514600" y="5029200"/>
          <a:ext cx="1066680" cy="155736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unt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114800" y="3352680"/>
          <a:ext cx="1066680" cy="77796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cl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clas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3581280" y="2057400"/>
            <a:ext cx="533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7:33:38Z</dcterms:created>
  <dc:creator>Perseus Missirlis</dc:creator>
  <dc:description/>
  <dc:language>en-US</dc:language>
  <cp:lastModifiedBy>Perseus Missirlis</cp:lastModifiedBy>
  <dcterms:modified xsi:type="dcterms:W3CDTF">2004-05-05T23:25:23Z</dcterms:modified>
  <cp:revision>47</cp:revision>
  <dc:subject/>
  <dc:title>Slide 1</dc:title>
</cp:coreProperties>
</file>