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648-E8C3-4743-8741-BCBD4FCD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72E-F6D5-4DC6-A400-14244DDE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96F-E883-4201-865E-54D0D4BB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4CB-8985-4D3E-A60C-E16DF3E8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A0A-0A16-4772-B0EC-93FD8390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D7C-8DF1-458A-84C4-36CF415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945-FF99-4F89-B7BE-0976C0B7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3AB-264E-49EF-A521-212BED2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FA4-3F89-473E-BB66-3D2E514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4DC-7C8B-4460-AC59-2ED8688A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0FF-BA26-490D-87C6-81B24C3E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660-A267-49F3-8DB9-FE7431E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FBE-3A4A-4EA6-BFFE-AFF7CB9D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719280" cy="9349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2205000"/>
            <a:ext cx="719280" cy="93492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619280" y="227628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48428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213000"/>
            <a:ext cx="136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briggs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21440" y="1196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1440" y="27806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scan-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981000"/>
            <a:ext cx="2158920" cy="1152720"/>
          </a:xfrm>
          <a:prstGeom prst="flowChartProcess">
            <a:avLst/>
          </a:prstGeom>
          <a:solidFill>
            <a:srgbClr val="dbc3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197000"/>
            <a:ext cx="20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ulate tRNA gene counts for both gen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local d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508640"/>
            <a:ext cx="914400" cy="685800"/>
          </a:xfrm>
          <a:prstGeom prst="flowChartMagneticDrum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373720"/>
            <a:ext cx="1368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. ele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db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(flat f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4724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1800" y="494136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most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29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Perl 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4076640"/>
            <a:ext cx="1728720" cy="158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rans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UniG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gene na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to Worm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ident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486900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32720" y="4264200"/>
            <a:ext cx="2016000" cy="2593800"/>
          </a:xfrm>
          <a:prstGeom prst="flowChartMultidocumen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Ace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quences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Briggsa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) BLAT h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 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7740720" y="3499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4000" y="2492280"/>
            <a:ext cx="1871640" cy="79236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do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62160" y="342864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Pe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28000" y="349596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DS n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907920"/>
            <a:ext cx="503280" cy="486000"/>
          </a:xfrm>
          <a:prstGeom prst="rightArrow">
            <a:avLst>
              <a:gd name="adj1" fmla="val 50000"/>
              <a:gd name="adj2" fmla="val 25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98900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33360"/>
            <a:ext cx="2232000" cy="1511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P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lative t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ne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nonym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on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0:11:55Z</dcterms:created>
  <dc:creator>P</dc:creator>
  <dc:description/>
  <dc:language>en-US</dc:language>
  <cp:lastModifiedBy>P</cp:lastModifiedBy>
  <dcterms:modified xsi:type="dcterms:W3CDTF">2003-05-22T07:23:20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7615063</vt:r8>
  </property>
  <property fmtid="{D5CDD505-2E9C-101B-9397-08002B2CF9AE}" pid="3" name="_AuthorEmail">
    <vt:lpwstr>perseusm@shaw.ca</vt:lpwstr>
  </property>
  <property fmtid="{D5CDD505-2E9C-101B-9397-08002B2CF9AE}" pid="4" name="_AuthorEmailDisplayName">
    <vt:lpwstr>Perseus Missirlis</vt:lpwstr>
  </property>
  <property fmtid="{D5CDD505-2E9C-101B-9397-08002B2CF9AE}" pid="5" name="_EmailSubject">
    <vt:lpwstr>read this, make flowchart</vt:lpwstr>
  </property>
</Properties>
</file>