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851-83B2-4928-8AC1-DAECD2A1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6FC-2927-4C4D-8DB8-33BAE6B5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350-E8C2-4AE6-82AF-858874FC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72F-1B0F-4D5C-8323-09F15AA6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EE3-FC26-45C8-84A4-4072B17B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D14-2006-42E3-82DA-BA5E88BF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972-DC8A-4A3A-98C6-85C65E7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3D8-B624-4AE6-816F-DCF85968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7CC-1016-4A1D-B5AE-6A721636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772-C234-4B6F-B1F3-DA99B141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5F6-B14C-4DFE-AB29-41ABCC70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C4B-45A3-4A41-8773-27160AA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B1EC-C7E7-406F-B94D-5D371F183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1942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952880"/>
          <a:ext cx="838440" cy="1700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2-03T19:26:36Z</dcterms:modified>
  <cp:revision>26</cp:revision>
  <dc:subject/>
  <dc:title>Slide 1</dc:title>
</cp:coreProperties>
</file>