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9CD-A619-4DB1-BCB6-1D6B0AA3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607-92F1-458E-A832-044FB3AC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434-6292-41B7-8128-578C296C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CBF-399F-44A9-AF0B-810DF8F4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2B3-440D-4405-B717-1745428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8A0-5D91-4897-B4FF-267E7635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824-8BA9-44F2-A2AC-C7774567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6E5-7772-479F-B5B9-3BB76FB4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489-6D98-4EE6-B3CE-A84DA7C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1C4-80EF-408A-A28D-DE92A75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1F41-F760-4201-A54E-EFDE42B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7D8-BCF2-4D34-8A5C-B984963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666D-A314-48A7-9772-CAE7E6E4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2185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724280"/>
          <a:ext cx="838440" cy="1943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16T17:59:58Z</dcterms:modified>
  <cp:revision>30</cp:revision>
  <dc:subject/>
  <dc:title>Slide 1</dc:title>
</cp:coreProperties>
</file>