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7AA-30FB-493B-BF23-C7CC308E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73D-900C-4312-8FA9-3B10DAB3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627-6B90-4C2D-AE4F-F55F225A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060-C1F1-4A49-9213-4813CBA5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05B-5B6D-4428-8BF3-3FD05B74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021-38E0-44F0-A36D-FC6B82ED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28A-55D3-4D70-856C-B235AA62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C7B-82C2-4C8D-A4F0-FFA9E171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B26-A05F-4DF9-9D2B-C1AA6375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D96-8DE8-4E3A-953E-BD6785BF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BFF-D048-4BDF-AD4C-CBAF3A24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D367-7FA5-4713-AF79-4A905F5E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84AF-7ADC-45E6-80E1-2F771434C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876920" y="4191120"/>
          <a:ext cx="685800" cy="242892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fe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2133720" y="434340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581280" y="464832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c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1600200" y="213372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867280" y="3962520"/>
          <a:ext cx="990720" cy="169992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172200" y="1600200"/>
          <a:ext cx="990720" cy="194328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_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_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_rep_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_rep_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2286000" y="99072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886200" y="2895480"/>
            <a:ext cx="457200" cy="457200"/>
          </a:xfrm>
          <a:prstGeom prst="flowChartDecision">
            <a:avLst/>
          </a:prstGeom>
          <a:solidFill>
            <a:srgbClr val="f7fb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048120" y="3124080"/>
            <a:ext cx="8380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200400" y="129492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114800" y="1981080"/>
            <a:ext cx="1981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3124080"/>
            <a:ext cx="1371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3124080"/>
            <a:ext cx="4572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962160" y="3352680"/>
            <a:ext cx="152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666520" y="29714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43792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4379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4379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029200" y="228600"/>
          <a:ext cx="838080" cy="1700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86200" y="152280"/>
          <a:ext cx="838080" cy="1700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_pr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_fc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3-11-27T00:52:12Z</dcterms:modified>
  <cp:revision>7</cp:revision>
  <dc:subject/>
  <dc:title>Slide 1</dc:title>
</cp:coreProperties>
</file>