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8C5-1B89-4E1E-BAD3-028A386C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B95-61F8-4584-81B9-5131D7CF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278-16F1-47B7-947F-77B5AD66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D36-EF81-4277-93FC-03A08C2B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300-193E-4729-9BFE-E51EA4FD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E0F-C9B0-4F95-97EA-E54344D3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740-9769-4134-988F-B36C5024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7BD-0821-4E3D-B80A-2C848258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5A1-DF3F-463A-964D-E1147A76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4DF-32D9-4A7F-AB97-9166F3B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810-FB16-474F-BA63-7EDB2CD3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EA6-40CF-49D0-AE1E-DBBD3686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6989-0D95-4D1F-BBFB-26F577B0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914040" y="167616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64771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477120" y="914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477120" y="914400"/>
            <a:ext cx="60948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914400"/>
            <a:ext cx="6094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7621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926480" y="4119480"/>
            <a:ext cx="226800" cy="90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52280"/>
          <a:ext cx="990360" cy="121464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 flipV="1">
            <a:off x="2057400" y="30492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MicroLog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v1.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- 0406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638680" y="3200400"/>
          <a:ext cx="990720" cy="315756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sease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_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648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114800" y="152280"/>
          <a:ext cx="1066680" cy="1700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 flipV="1">
            <a:off x="3581280" y="309240"/>
            <a:ext cx="534960" cy="17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04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0574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57400" y="2666880"/>
            <a:ext cx="45720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5181480"/>
          <a:ext cx="990360" cy="145728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yt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6320" y="1523880"/>
          <a:ext cx="838080" cy="36432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nk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_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14600" y="1676520"/>
          <a:ext cx="1066680" cy="26715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14800" y="3809880"/>
          <a:ext cx="1066680" cy="9716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581280" y="19810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514600" y="4724280"/>
          <a:ext cx="1066680" cy="204624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st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14800" y="2819520"/>
          <a:ext cx="1066680" cy="731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581280" y="20574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2057400"/>
            <a:ext cx="53352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4800" y="5181480"/>
          <a:ext cx="1066680" cy="155736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3581280" y="1981080"/>
            <a:ext cx="5335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048120"/>
          <a:ext cx="990720" cy="194292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g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uster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eaf1"/>
                    </a:solidFill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t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6-11T19:54:48Z</dcterms:modified>
  <cp:revision>55</cp:revision>
  <dc:subject/>
  <dc:title>Slide 1</dc:title>
</cp:coreProperties>
</file>