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3D9-ABB2-4229-9EA8-15229756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B63-B32D-400D-8728-5EFB98CF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73F1-AC9B-434D-9FC9-7F9932CB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BDD-580A-421E-ADA4-FD279332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09B-0A61-4481-8AD8-ADEF0E60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CBE-FE72-481A-8112-A11B30E0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BAD-6AFE-4080-885A-44CD993E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382-54F3-4390-9653-5E8FBBB4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63D-3E20-4AC6-9917-40AA5D6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C27-077D-4DA4-A01C-8A56A9D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374-6C8C-478F-A4A7-E76E04E5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81A-C4EC-42E0-9EBF-0C03F230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E18B-325B-4349-8A2F-EE6528D6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638680" y="14479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522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 flipV="1">
            <a:off x="1981080" y="228240"/>
            <a:ext cx="53352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euro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3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14800" y="3124080"/>
          <a:ext cx="838080" cy="34005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eri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_eff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581280" y="2666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4800" y="137160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 flipV="1">
            <a:off x="358128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057400" y="1828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81080" y="2666880"/>
            <a:ext cx="53352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43000" y="5257800"/>
          <a:ext cx="838080" cy="1457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066680" y="1447920"/>
          <a:ext cx="990720" cy="3643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ag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3-23T00:56:02Z</dcterms:modified>
  <cp:revision>37</cp:revision>
  <dc:subject/>
  <dc:title>Slide 1</dc:title>
</cp:coreProperties>
</file>