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52AD-2D4E-45E5-A233-18EDF79A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43C7-448C-4C3F-B803-C2CB6BFB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856-62D1-4F02-A040-3F701079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E95D-7967-433B-999D-EBE814EB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1A4D-16F9-40A2-AFDE-49523029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1FB4-B372-4C82-98BD-9D88944B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C781-C00C-4D63-8200-454FA08B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5532-3281-4860-A048-10459956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E3E6-176D-4B1E-92CA-F42297CB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AD08-EE86-43E9-9B06-85EC1112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8AF-54C0-457B-A910-393B6945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C693-6A24-46A2-ACBB-EC8E79EC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F99E-AB60-4D9E-9E5D-4617DC82A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9680" y="2590920"/>
          <a:ext cx="1067040" cy="2671560"/>
        </p:xfrm>
        <a:graphic>
          <a:graphicData uri="http://schemas.openxmlformats.org/drawingml/2006/table">
            <a:tbl>
              <a:tblPr/>
              <a:tblGrid>
                <a:gridCol w="10670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_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685800" y="3733920"/>
          <a:ext cx="838080" cy="1699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 flipV="1">
            <a:off x="6172200" y="91404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648320" y="15235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781680" y="838080"/>
          <a:ext cx="838080" cy="728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3809880" y="4952880"/>
          <a:ext cx="838080" cy="48600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781680" y="1752480"/>
          <a:ext cx="838080" cy="728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6172200" y="1523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781680" y="2666880"/>
          <a:ext cx="838080" cy="728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6781680" y="3581280"/>
          <a:ext cx="838080" cy="728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172200" y="1523880"/>
            <a:ext cx="60948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523880"/>
            <a:ext cx="6094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34120" y="1447920"/>
          <a:ext cx="838080" cy="1699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8153280" y="4191120"/>
          <a:ext cx="838440" cy="1699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_re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8c8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7620120" y="373392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5800" y="1600200"/>
          <a:ext cx="838080" cy="1214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_b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 flipH="1" flipV="1">
            <a:off x="1523520" y="167616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chz_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1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040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809880" y="3581280"/>
          <a:ext cx="838080" cy="97164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3276720" y="2743200"/>
            <a:ext cx="53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280" y="152280"/>
          <a:ext cx="838440" cy="971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_inf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b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_r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9880" y="2133720"/>
          <a:ext cx="838440" cy="72864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5ebed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_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_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fbd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 flipV="1">
            <a:off x="3276720" y="22860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7:33:38Z</dcterms:created>
  <dc:creator>Perseus Missirlis</dc:creator>
  <dc:description/>
  <dc:language>en-US</dc:language>
  <cp:lastModifiedBy>Perseus Missirlis</cp:lastModifiedBy>
  <dcterms:modified xsi:type="dcterms:W3CDTF">2004-01-16T02:17:03Z</dcterms:modified>
  <cp:revision>20</cp:revision>
  <dc:subject/>
  <dc:title>Slide 1</dc:title>
</cp:coreProperties>
</file>