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912-7797-495C-83A4-676D78F4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2AA-FD96-4E3A-BDF8-A41944E6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01E-365D-44BD-822C-566491AB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27A-0859-4990-88E9-A40B8F6E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C69-7806-415D-A02C-004B03C1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7C3B-17B9-4DD7-BF50-28202968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F49-9DAD-4016-A142-AF1B6332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F8B-F0A8-4934-BD02-6ACF87BF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CF9-0F8E-412F-9E67-800F7207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6671-EDC9-48FD-B0E1-0283C46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2AB-5893-4EA9-89C8-32D1968C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D39-F446-4F79-8B5B-5F46F7E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456-F86D-479A-A4B1-5A211482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31T02:42:13Z</dcterms:modified>
  <cp:revision>26</cp:revision>
  <dc:subject/>
  <dc:title>Slide 1</dc:title>
</cp:coreProperties>
</file>