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23C-4743-4F6F-8DB8-38253107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88F-0B83-4566-894F-323C3A00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DF1A-AB0E-4BAC-A8A5-AA6F3544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671-160F-44A0-8FE0-085BE3B5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16BB-6ED6-4CFB-90F4-42074988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E30-F9AE-46AC-AFC8-A1A2D19D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BF3F-8979-4872-8B97-1B8277C7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3ED-B8FF-4FFC-A572-1AB51FCF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A1C0-289A-4240-858A-E47142B4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CC95-C621-4A69-9ED7-13EE5A19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96D8-B483-41B3-9E88-05973A4C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006-DDBB-4085-8932-BD1630B7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8EEC-10D4-44F6-A192-98369BFC1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43200" y="228600"/>
            <a:ext cx="327672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ease-associated rep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3200400" y="91440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95680" y="91440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1752480"/>
            <a:ext cx="2209680" cy="990720"/>
          </a:xfrm>
          <a:prstGeom prst="rect">
            <a:avLst/>
          </a:prstGeom>
          <a:solidFill>
            <a:srgbClr val="ff9d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 to map wit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Gen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1752480"/>
            <a:ext cx="221004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 wit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Gen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590560" y="2743200"/>
            <a:ext cx="2971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2743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657600"/>
            <a:ext cx="3124080" cy="990720"/>
          </a:xfrm>
          <a:prstGeom prst="rect">
            <a:avLst/>
          </a:prstGeom>
          <a:solidFill>
            <a:srgbClr val="ff9d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 not detected with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Gene cluster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3657600"/>
            <a:ext cx="312444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 detected with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Gene cluster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648320" y="4648320"/>
            <a:ext cx="1295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6483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5486400"/>
            <a:ext cx="3733920" cy="990720"/>
          </a:xfrm>
          <a:prstGeom prst="rect">
            <a:avLst/>
          </a:prstGeom>
          <a:solidFill>
            <a:srgbClr val="ff9d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repeat instability de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in UniGene cluster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5486400"/>
            <a:ext cx="3733920" cy="99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 instability de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in UniGene cluster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3:19:12Z</dcterms:created>
  <dc:creator>Perseus Missirlis</dc:creator>
  <dc:description/>
  <dc:language>en-US</dc:language>
  <cp:lastModifiedBy>Perseus Missirlis</cp:lastModifiedBy>
  <dcterms:modified xsi:type="dcterms:W3CDTF">2004-06-21T15:56:42Z</dcterms:modified>
  <cp:revision>4</cp:revision>
  <dc:subject/>
  <dc:title>Slide 1</dc:title>
</cp:coreProperties>
</file>