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03BD-931F-4041-A1B1-BE29C7C5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2110-596F-464A-AE8C-9EA99E95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FA2F-FBE6-41EE-B40B-AB3D2D6B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1409-5856-4610-9976-0D90231E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3454-D8FB-437E-B59F-91D6212C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9896-3F76-4D1E-AC9E-2F2CFFFA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DD87-81AD-4A9A-B4A6-B4CEBFB5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3085-11EB-4B9D-9B8C-458F0124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823C-0F0C-4524-9AFA-25BD370D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31FB-D702-45C9-A778-1B8D3CDD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6EDA-83E1-44A2-A9B5-E2D260CB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317E-A2BB-4E5F-84B9-CB292F0E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3B35-BB7B-4945-A713-2638452C5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14600" y="2514600"/>
          <a:ext cx="1066680" cy="218592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219320" y="3657600"/>
          <a:ext cx="838080" cy="16999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 flipV="1">
            <a:off x="6477120" y="7621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086600" y="609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114800" y="4876920"/>
          <a:ext cx="838080" cy="485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7086600" y="1752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6477120" y="15238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086600" y="2895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7086600" y="40384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6477120" y="1523880"/>
            <a:ext cx="60948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1523880"/>
            <a:ext cx="6094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638680" y="1447920"/>
          <a:ext cx="838440" cy="1942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8153280" y="4952880"/>
          <a:ext cx="838440" cy="170028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7924680" y="41148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19320" y="1523880"/>
          <a:ext cx="838080" cy="1214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 flipH="1" flipV="1">
            <a:off x="2057400" y="159984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hz_d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1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040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114800" y="3505320"/>
          <a:ext cx="838080" cy="971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3581280" y="266688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280" y="152280"/>
          <a:ext cx="838440" cy="971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_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_r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114800" y="1905120"/>
          <a:ext cx="1066680" cy="14572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p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s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 flipV="1">
            <a:off x="3581280" y="1980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181480" y="1523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4-01-22T23:04:21Z</dcterms:modified>
  <cp:revision>24</cp:revision>
  <dc:subject/>
  <dc:title>Slide 1</dc:title>
</cp:coreProperties>
</file>