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E03-5814-4416-9C59-8D8E4E86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2EE-BD9B-4F18-BC0D-2C8CBF22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4875-E2D5-4077-826A-AA9283ED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9A5-C711-4F4F-9A4D-30FBC38C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F05-4823-449D-9067-F5689430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74B-E669-4300-B395-B465B8BD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29D-9357-48A1-B770-FBA621C8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4BD-C097-413E-A4DD-5B2EED96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143-CF28-4D09-80F1-91CBFE9D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0DE-0F96-40C5-B4F2-BB751DDD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709-416F-4DA4-839B-0403137D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B14-7A4A-4944-8289-738428EC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9EDE-4501-4959-A7B7-9DBA932FB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124080" y="2590920"/>
          <a:ext cx="1067040" cy="2671560"/>
        </p:xfrm>
        <a:graphic>
          <a:graphicData uri="http://schemas.openxmlformats.org/drawingml/2006/table">
            <a:tbl>
              <a:tblPr/>
              <a:tblGrid>
                <a:gridCol w="10670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600200" y="37339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019920" y="914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191120" y="152352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629400" y="8380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81480" y="502920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629400" y="17524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60199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9400" y="26668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629400" y="35812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019920" y="1523880"/>
            <a:ext cx="6094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152388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181480" y="1447920"/>
          <a:ext cx="838440" cy="1699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001000" y="4191120"/>
          <a:ext cx="838080" cy="1214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_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7467480" y="3733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00200" y="1600200"/>
          <a:ext cx="838080" cy="1214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 flipV="1">
            <a:off x="2437920" y="16761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181480" y="342900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191120" y="2743200"/>
            <a:ext cx="9903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15T03:28:43Z</dcterms:modified>
  <cp:revision>16</cp:revision>
  <dc:subject/>
  <dc:title>Slide 1</dc:title>
</cp:coreProperties>
</file>