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AA2-EA5D-4748-87AB-6D406FE88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17F-7FDB-4B90-BFBB-629195E6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71F-6BA7-48D4-9DB2-CEFA3645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E78-A3D9-42EC-9AC7-34269A6A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781-1D0A-4D0B-A51F-7E17558A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1D8-6EC5-4FC1-ADF1-D0846356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826-553E-4421-9FAB-917CBCD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B46-A3BB-4D4A-9585-A3D96AC5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441360"/>
            <a:ext cx="98740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CAC-833D-48F7-9475-2F90CAA1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11B-FD53-4DC9-9EC3-0A4A63FA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2FC-624C-45A5-B8DB-DB6F839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B5E-F82C-45A0-A71F-5CCF1B55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1800"/>
            <a:ext cx="34732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9CD00079-9122-4C21-98B1-FF0AA98F1A0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1:18:24Z</dcterms:created>
  <dc:creator>Genome Sciences Centre</dc:creator>
  <dc:description/>
  <dc:language>en-US</dc:language>
  <cp:lastModifiedBy>Genome Sciences Centre</cp:lastModifiedBy>
  <dcterms:modified xsi:type="dcterms:W3CDTF">2009-03-31T01:22:28Z</dcterms:modified>
  <cp:revision>1</cp:revision>
  <dc:subject/>
  <dc:title>Slide 1</dc:title>
</cp:coreProperties>
</file>